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448-E37D-40FB-8861-CF472896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AF8-4E75-4032-8EEA-EB34081E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940-5C09-41A5-946D-5C747F3F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FCF-9734-4275-A896-6621CF1A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3F1-2A68-46EB-98B0-A94F680A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DA0-0CA9-4C73-9222-3D5831A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3EC-9D2B-4DD5-ACB7-CADA904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8CC-55EB-4198-82D6-DF5159F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75A-9085-428D-BD5B-AD4444A8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4FE-463D-4C68-84F7-9B7F8C3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C69-A7D1-4D33-B67C-38AFF51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FD7-8CD9-4700-80CE-8413562B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7E4D-26A9-4A9E-9EF0-B2200F2E4EB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Across 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vonne Santal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nic Aged Health Adv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dney South West Area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15156_" descr=""/>
          <p:cNvPicPr/>
          <p:nvPr/>
        </p:nvPicPr>
        <p:blipFill>
          <a:blip r:embed="rId1"/>
          <a:stretch/>
        </p:blipFill>
        <p:spPr>
          <a:xfrm>
            <a:off x="1143000" y="337176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Arial"/>
              </a:rPr>
              <a:t>Cross Cultural Competence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l and or 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recipe book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similarities and differences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developing cross-cultural skills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       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바탕"/>
              </a:rPr>
              <a:t>Partnershi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consultation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acceptance and acknowledgemen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hared vision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upport mechanisms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Arial"/>
              </a:rPr>
              <a:t>Forming Links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linkages and networks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3:08:18Z</dcterms:created>
  <dc:creator>SWSAHS</dc:creator>
  <dc:description/>
  <dc:language>en-US</dc:language>
  <cp:lastModifiedBy>Beatrizn Leoncini</cp:lastModifiedBy>
  <dcterms:modified xsi:type="dcterms:W3CDTF">2007-06-21T00:28:57Z</dcterms:modified>
  <cp:revision>3</cp:revision>
  <dc:subject/>
  <dc:title>Working Across Cultures</dc:title>
</cp:coreProperties>
</file>