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6E5-F73C-439A-A18E-D81054ED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A5B-BCC5-4E25-9B6E-9306995D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E98-9231-4F56-8A0F-D592D81E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A40-18B9-4D7A-A973-F6866978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CEA-F7DD-4325-9EEA-960C83ED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C27-DF66-4E84-9372-5155C566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549-B806-411C-BDC7-FF902E6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EB3-3A54-4248-A4DF-8F2E0A96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60A-B83A-48DD-8E40-10E6C2F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7E2-AE7C-431D-974D-7073BDAC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0A0-8469-45CC-A4CB-5B1712D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3DF-8ED0-4F5D-A7E8-75D4A57B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3B0C-7B8D-44A9-98C1-CDBB291C0B8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NSW Transcultural Ag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Care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4437000"/>
            <a:ext cx="64213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321"/>
                </a:solidFill>
                <a:latin typeface="Arial"/>
              </a:rPr>
              <a:t>Understanding the Macedonian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3321"/>
                </a:solidFill>
                <a:latin typeface="Arial"/>
              </a:rPr>
              <a:t>and the attitudes towards Deme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day 21st June 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George Migrant Resource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8407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99"/>
                </a:solidFill>
                <a:latin typeface="Arial Unicode MS"/>
              </a:rPr>
              <a:t>What is TAC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2565360"/>
            <a:ext cx="7705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tatewide service funded by the Australian Department of Health and Ageing under th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tners in Culturally Appropriate C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PICAC)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99"/>
                </a:solidFill>
                <a:latin typeface="Arial"/>
              </a:rPr>
              <a:t>THE ROLE OF TAC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3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 &amp; improve partnerships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df33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ged care service prov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df33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thnic community organisations – Community Partnership Program (CP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df33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H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3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sure that the specific needs of older people from culturally and linguistically diverse (CALD) backgrounds are identified and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THE ROLE OF TAC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f3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CS helps service providers and CALD communities work together to ensure that cultural diversity care needs are addressed at all levels of service planning and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3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CS provides information, education and training sessions to aged care service providers to enhance culturally appropriate care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3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ultations with CALD communities are conducted to ensure that cultural care needs are addressed in the most appropriat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3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ombination of CALD community consultation and service provider liaison results in TACS’s unique ability to effectively facilitate lasting 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33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ch partnerships are highly valued by community groups wishing to contribute to the care of their elders; and are greatly beneficial for service providers now able to tap into a wealth of cultur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Arial"/>
              </a:rPr>
              <a:t>TACS in a nutshel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dentification of specific needs of     CALD cl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mproved choice and participation for CALD older people in the local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nformation, training and resources to meet the cultural care needs of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Rewarding partnerships between your service and the loca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99"/>
                </a:solidFill>
                <a:latin typeface="Arial"/>
              </a:rPr>
              <a:t>Contact TA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ile Vilevski,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el : 9515 98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ile.Vilevski@email.cs.nsw.gov.a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W Transcultural Aged Car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7, King George V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enden R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ERDOWN  NSW 20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 : 9515 9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cs@email.cs.nsw.gov.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6:17:50Z</dcterms:created>
  <dc:creator>pegumn</dc:creator>
  <dc:description/>
  <dc:language>en-US</dc:language>
  <cp:lastModifiedBy>Beatrizn Leoncini</cp:lastModifiedBy>
  <dcterms:modified xsi:type="dcterms:W3CDTF">2007-06-20T23:27:22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9451109</vt:r8>
  </property>
  <property fmtid="{D5CDD505-2E9C-101B-9397-08002B2CF9AE}" pid="3" name="_AuthorEmail">
    <vt:lpwstr>mile.vilevski@email.cs.nsw.gov.au</vt:lpwstr>
  </property>
  <property fmtid="{D5CDD505-2E9C-101B-9397-08002B2CF9AE}" pid="4" name="_AuthorEmailDisplayName">
    <vt:lpwstr>Mile Vilevski</vt:lpwstr>
  </property>
  <property fmtid="{D5CDD505-2E9C-101B-9397-08002B2CF9AE}" pid="5" name="_EmailSubject">
    <vt:lpwstr>TACS presentation</vt:lpwstr>
  </property>
</Properties>
</file>